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9D5-B370-478A-A09E-EC1D1AA3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A21-BFCF-4F91-8E97-AA983B5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022-7259-45EA-80D3-C159A895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80A-1C8C-41CC-9ABF-94F3EADB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7E0-646C-45F2-90DE-D40238B9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580-45BE-4528-AEEC-17A8A9C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F09-7E63-450C-84BF-F794AFB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BFC-BA5F-4E2F-BB07-ECF45D6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A19-360C-435A-9513-FC5514C0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464-5AE4-4EB5-8AE5-55E06B2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B9C-CEA5-44F7-ACEE-EE823D8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4B0-E2B3-4BC4-996C-822ABA6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792-59D0-4BA3-97B0-93964E4C1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6;&#1086;&#1089;&#1089;&#1080;&#1103;%20&#8212;%20&#1086;&#1073;&#1097;&#1080;&#1081;%20&#1076;&#1086;&#1084;%20&#1084;&#1085;&#1086;&#1075;&#1080;&#1093;%20&#1085;&#1072;&#1094;&#1080;&#1086;&#1085;&#1072;&#1083;&#1100;&#1085;&#1086;&#1089;&#1090;&#1077;&#1081;&amp;img_url=http%3A%2F%2Fwww.islamnews.ru%2Fuploads%2Fnews%2F2012-07%2F1341227464%2Fglobal%2Fnews-XEokjjMRsX.jpg&amp;pos=5&amp;uinfo=sw-1044-sh-465-fw-819-fh-448-pd-1&amp;rpt=simage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1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Наша страна – Россия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дна ты на свете! Одна ты такая -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Хранимая Богом родная зем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stihi.ru/pics/2010/12/11/1162.jpg"/>
          <p:cNvPicPr/>
          <p:nvPr/>
        </p:nvPicPr>
        <p:blipFill>
          <a:blip r:embed="rId1"/>
          <a:stretch/>
        </p:blipFill>
        <p:spPr>
          <a:xfrm>
            <a:off x="914400" y="1295280"/>
            <a:ext cx="71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52280" y="2743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оссия — самая большая страна в ми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orum.vgd.ru/file.php?fid=49238&amp;key=2120080083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очему в Гимне Россия названа «братских народов союз веково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Главное богатство России — ее многонациональный на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upme-rf.ru/wp-content/uploads/2011/11/112911_1016_2.jpg"/>
          <p:cNvPicPr/>
          <p:nvPr/>
        </p:nvPicPr>
        <p:blipFill>
          <a:blip r:embed="rId1"/>
          <a:stretch/>
        </p:blipFill>
        <p:spPr>
          <a:xfrm>
            <a:off x="304920" y="1371600"/>
            <a:ext cx="823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learning\Рабочий стол\Одежда\0_69a4_2f103836_XL[1].jpg"/>
          <p:cNvPicPr/>
          <p:nvPr/>
        </p:nvPicPr>
        <p:blipFill>
          <a:blip r:embed="rId1"/>
          <a:stretch/>
        </p:blipFill>
        <p:spPr>
          <a:xfrm>
            <a:off x="214200" y="214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learning\Рабочий стол\Одежда\304_33[1].jpg"/>
          <p:cNvPicPr/>
          <p:nvPr/>
        </p:nvPicPr>
        <p:blipFill>
          <a:blip r:embed="rId2"/>
          <a:stretch/>
        </p:blipFill>
        <p:spPr>
          <a:xfrm>
            <a:off x="214200" y="3211560"/>
            <a:ext cx="2428920" cy="364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learning\Рабочий стол\Одежда\304_35[1].jpg"/>
          <p:cNvPicPr/>
          <p:nvPr/>
        </p:nvPicPr>
        <p:blipFill>
          <a:blip r:embed="rId3"/>
          <a:stretch/>
        </p:blipFill>
        <p:spPr>
          <a:xfrm>
            <a:off x="6215040" y="214200"/>
            <a:ext cx="2714760" cy="407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learning\Рабочий стол\Одежда\ce470e8b2221[1].jpg"/>
          <p:cNvPicPr/>
          <p:nvPr/>
        </p:nvPicPr>
        <p:blipFill>
          <a:blip r:embed="rId4"/>
          <a:stretch/>
        </p:blipFill>
        <p:spPr>
          <a:xfrm>
            <a:off x="4608360" y="3714840"/>
            <a:ext cx="4321440" cy="28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learning\Рабочий стол\Одежда\publication_2546_5425[1].jpg"/>
          <p:cNvPicPr/>
          <p:nvPr/>
        </p:nvPicPr>
        <p:blipFill>
          <a:blip r:embed="rId5"/>
          <a:stretch/>
        </p:blipFill>
        <p:spPr>
          <a:xfrm>
            <a:off x="2214720" y="3143160"/>
            <a:ext cx="2543040" cy="285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learning\Рабочий стол\Одежда\imgB[1].jpg"/>
          <p:cNvPicPr/>
          <p:nvPr/>
        </p:nvPicPr>
        <p:blipFill>
          <a:blip r:embed="rId6"/>
          <a:stretch/>
        </p:blipFill>
        <p:spPr>
          <a:xfrm>
            <a:off x="4429080" y="571680"/>
            <a:ext cx="17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ссия — общий дом многих национа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im7-tub-ru.yandex.net/i?id=189357906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884160"/>
            <a:ext cx="66895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акое событие изображено?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чему воздушные шары на сцене именно таких цветов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839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1089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азднование Дня Народного Единства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 шк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10439" t="0" r="0" b="0"/>
          <a:stretch/>
        </p:blipFill>
        <p:spPr>
          <a:xfrm>
            <a:off x="457200" y="1066680"/>
            <a:ext cx="8229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0070c0"/>
                </a:solidFill>
                <a:latin typeface="Arial"/>
              </a:rPr>
              <a:t>Государственный 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:\20 лет констит\20 лет конст\флаг.jpg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97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думай, почему Россия – общий Дом для ее национальностей? Какие из значений понятия «Дом» лучше помогут ответить тебе на этот вопро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1600200"/>
          <a:ext cx="8534520" cy="5121360"/>
        </p:xfrm>
        <a:graphic>
          <a:graphicData uri="http://schemas.openxmlformats.org/drawingml/2006/table">
            <a:tbl>
              <a:tblPr/>
              <a:tblGrid>
                <a:gridCol w="2209680"/>
                <a:gridCol w="3886200"/>
                <a:gridCol w="243864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. И. Д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.И. Ожег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.В. Виногра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строение для житья, усад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жилое  здание; свое жильё, а также семья, люди, живущие вместе, их хозяйство; место, где живут люди, объединённые общими интересами, условиями существования; династия, р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ОМ: люди, живущие вместе; семь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Размышляем  вмест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Страну нашу называют различными именами: Российская Федерация, Россия, матушка Россия,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В каких случаях какие названия мы употребляем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  еще можно называть нашу стра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сскажи, что объединяет оба пейзажа?  Какие общие детали пейзажей ты видиш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ленов Василий Дмитриевич (1844-1927) Монастырь над ре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10" descr="1853254875[1].jpg"/>
          <p:cNvPicPr/>
          <p:nvPr/>
        </p:nvPicPr>
        <p:blipFill>
          <a:blip r:embed="rId1"/>
          <a:stretch/>
        </p:blipFill>
        <p:spPr>
          <a:xfrm>
            <a:off x="0" y="2895480"/>
            <a:ext cx="4497480" cy="253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фонин Александр Павлович (род. 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ебо Святой 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11" descr="iCAFCQSW8.jpg"/>
          <p:cNvPicPr/>
          <p:nvPr/>
        </p:nvPicPr>
        <p:blipFill>
          <a:blip r:embed="rId2"/>
          <a:stretch/>
        </p:blipFill>
        <p:spPr>
          <a:xfrm>
            <a:off x="5048280" y="2386080"/>
            <a:ext cx="35622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митрий Сергеевич Лихачёв. «Земля род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3dcb"/>
                </a:solidFill>
                <a:latin typeface="Arial"/>
              </a:rPr>
              <a:t>«Я придерживаюсь того взгляда, что </a:t>
            </a: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любовь к Родине начинается с любви к своей семье, к своему дому, к своей школе. </a:t>
            </a:r>
            <a:r>
              <a:rPr b="0" lang="ru-RU" sz="2400" spc="-1" strike="noStrike">
                <a:solidFill>
                  <a:srgbClr val="0b3dcb"/>
                </a:solidFill>
                <a:latin typeface="Arial"/>
              </a:rPr>
              <a:t>Она постепенно растет. С возрастом она становится также любовью к своему городу, к своему селу, к родной природе, к своим землякам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ОПК 2013-2014\! урок\iCA89FGGZ.jpg"/>
          <p:cNvPicPr/>
          <p:nvPr/>
        </p:nvPicPr>
        <p:blipFill>
          <a:blip r:embed="rId1"/>
          <a:stretch/>
        </p:blipFill>
        <p:spPr>
          <a:xfrm>
            <a:off x="3962520" y="304920"/>
            <a:ext cx="4654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4038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Михаил Михайлович Пришвин. «Моя род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5" descr="iCAGPPH4L.jpg"/>
          <p:cNvPicPr/>
          <p:nvPr/>
        </p:nvPicPr>
        <p:blipFill>
          <a:blip r:embed="rId1"/>
          <a:stretch/>
        </p:blipFill>
        <p:spPr>
          <a:xfrm>
            <a:off x="4724280" y="152280"/>
            <a:ext cx="4213440" cy="638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572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b3dcb"/>
                </a:solidFill>
                <a:latin typeface="Arial"/>
              </a:rPr>
              <a:t>«Мать моя вставала рано, до солнца. Я однажды встал тоже до солнца, чтобы на заре расставить силки на перепёлок. Мать угостила меня чаем с молоком. Молоко это кипятилось в глиняном горшочке и сверху всегда покрывалось румяной пенкой, а под этой пенкой оно было необыкновенно вкусное, и чай от него делался прекрас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dcb"/>
                </a:solidFill>
                <a:latin typeface="Arial"/>
              </a:rPr>
              <a:t>Это угощение решило мою жизнь в хорошую сторону: я начал вставать до солнца, чтобы напиться с мамой вкусного чаю. Мало-помалу я к этому утреннему вставанию так привык, что уже не мог проспать восход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4572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3dcb"/>
                </a:solidFill>
                <a:latin typeface="Arial"/>
              </a:rPr>
              <a:t>Иван Сергеевич Тургенев «Дерев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4" descr="iCAUKIUYW.jpg"/>
          <p:cNvPicPr/>
          <p:nvPr/>
        </p:nvPicPr>
        <p:blipFill>
          <a:blip r:embed="rId1"/>
          <a:stretch/>
        </p:blipFill>
        <p:spPr>
          <a:xfrm>
            <a:off x="4343400" y="380880"/>
            <a:ext cx="4800600" cy="6274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«Последний день июня месяца; на тысячу верст кругом Россия — родной край. Ровной синевой залито всё небо; одно лишь облачко на нём — не то плывёт, не то тает. Безветрие, теплынь... воздух — молоко парное! Жаворонки звенят; воркуют зобастые голуби; молча реют ласточки; лошади фыркают и жуют; собаки не лают и стоят, смирно повиливая хвост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Алексей </a:t>
            </a:r>
            <a:br>
              <a:rPr sz="2400"/>
            </a:br>
            <a:r>
              <a:rPr b="1" lang="ru-RU" sz="2400" spc="-1" strike="noStrike">
                <a:solidFill>
                  <a:srgbClr val="0b3dcb"/>
                </a:solidFill>
                <a:latin typeface="Arial"/>
              </a:rPr>
              <a:t>Константинович Толстой. «Земля оттич и дедич» («Земля отцов и дедов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3809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3dcb"/>
                </a:solidFill>
                <a:latin typeface="Arial"/>
              </a:rPr>
              <a:t>Родина — это движение народа по своей земле из глубин веков к желанному будущему, в которое он верит и создаёт своими руками для себя и своих поколени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g-fotki.yandex.ru/get/4525/14103101.ee/0_6eb5e_1301bf9a_XL"/>
          <p:cNvPicPr/>
          <p:nvPr/>
        </p:nvPicPr>
        <p:blipFill>
          <a:blip r:embed="rId1"/>
          <a:stretch/>
        </p:blipFill>
        <p:spPr>
          <a:xfrm>
            <a:off x="4114800" y="304920"/>
            <a:ext cx="479124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58200" y="1028160"/>
            <a:ext cx="7632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 каждый из авторов назвал свой текст о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ой текст тебе понравился больше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Какими средствами передает «чувство Родины» автор понравившегося тебе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dcb"/>
                </a:solidFill>
                <a:latin typeface="Arial"/>
              </a:rPr>
              <a:t>Подсказка: красота родного края;  ощущение вкусов, запахов окружающего мира;  история родной земли; чувство любви и привязанности к близким, к окруж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3dcb"/>
                </a:solidFill>
                <a:latin typeface="Arial"/>
              </a:rPr>
              <a:t>Подумай 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Что объединяет все тексты о Родине из этого уро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Вспомни из курса «Окружающий мир», что означает понятие «малая родина». Поделись своими размышлениями, как связаны между собой малая и большая род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Задание на самооцен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акой из текстов помог задуматься? Над ч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главные слова о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свой текст о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Напиши </a:t>
            </a:r>
            <a:r>
              <a:rPr b="1" lang="ru-RU" sz="4000" spc="-1" strike="noStrike" u="sng">
                <a:solidFill>
                  <a:srgbClr val="0b3dcb"/>
                </a:solidFill>
                <a:uFillTx/>
                <a:latin typeface="Arial"/>
              </a:rPr>
              <a:t>синквейн</a:t>
            </a: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 на тему «Родина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Прочитай, подумай и объяс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очитай рассказ Константина Дмитриевича Ушин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Наше Отечеств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Какие наименования России  употребляет автор? Как он их объясня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ше Отечество, наша родина – матушка Россия. Отечеством мы зовём Россию потому, что в ней жили испокон веку отцы и деды наши. Родиной мы зовём её потому, что в ней мы родились, в ней говорят родным нам языком и всё в ней для нас родное, а матерью - потому, что она вскормила нас своим хлебом, вспоила своими водами, выучила своему языку и, как мать, защищает и бережёт нас от всяких врагов, и, когда мы уснём навеки, то она же прикроет и кости наш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спомним Гимн России. Какие еще имена России   названы в Гимне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:\20 лет констит\20 лет конст\гимн России текс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От южных море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holidaykey.ru/media/propertyphotos/1/3541/24758sm.jpg"/>
          <p:cNvPicPr/>
          <p:nvPr/>
        </p:nvPicPr>
        <p:blipFill>
          <a:blip r:embed="rId1"/>
          <a:stretch/>
        </p:blipFill>
        <p:spPr>
          <a:xfrm>
            <a:off x="7621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…</a:t>
            </a: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до полярно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.obozrevatel.ua/11/1245876/gallery/678746.jpg"/>
          <p:cNvPicPr/>
          <p:nvPr/>
        </p:nvPicPr>
        <p:blipFill>
          <a:blip r:embed="rId1"/>
          <a:stretch/>
        </p:blipFill>
        <p:spPr>
          <a:xfrm>
            <a:off x="457200" y="1143000"/>
            <a:ext cx="80866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Раскинулись наши леса и пол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img01.chitalnya.ru/upload/568/52508127363398.jpg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7:39Z</dcterms:created>
  <dc:creator>Ольга</dc:creator>
  <dc:description/>
  <dc:language>en-US</dc:language>
  <cp:lastModifiedBy>Olga</cp:lastModifiedBy>
  <dcterms:modified xsi:type="dcterms:W3CDTF">2014-10-23T05:53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