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D41-44D8-411A-A225-397DF35A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B29-0482-4ADA-A57C-9F32969F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876-2DF9-4096-B072-809F47DC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880-6650-46E0-A263-12D6E5DC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590-52B9-4FD8-AAEF-892159A1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B56-6268-436A-80DF-0173E11D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C92-DFDB-46E3-B971-B8C011C3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93B-EC3C-4D19-B417-85A3C84D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698-B3F6-44E6-8622-63BFD82D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FCA-CB2C-405C-AD14-397D59A5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EDD-44C8-49BF-AB52-79D46849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73B-7A88-4C22-8DF0-E1377BFC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B7CE-FF7A-4A39-99FF-A05F33536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5592600"/>
          </a:xfrm>
          <a:prstGeom prst="rect">
            <a:avLst/>
          </a:prstGeom>
          <a:noFill/>
          <a:ln w="9360">
            <a:solidFill>
              <a:srgbClr val="0b3dc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Урок 2 </a:t>
            </a:r>
            <a:br>
              <a:rPr sz="4400"/>
            </a:b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«Вера, религия, культура»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Курс ОРКСЭ (модуль» Основы православной культуры»)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Автор: Осадчая Ольга Олеговна, учитель ОРКСЭ ГБОУ СОШ  № 347</a:t>
            </a:r>
            <a:br>
              <a:rPr sz="36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г. Санкт-Пете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Как вы думаете, что означает слово «культура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лово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культура»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означает все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о создается в человеческой деятельности,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 направляемой идеалами, представлениями о благе. Культура -  слово латинское. Его первоначальное значение связано с земледелием и означает улучшение почвы, чтобы она стала плодородной, и облагораживание растений, чтобы они цвели пышнее, нежнее благоухали, приносили обильные и сочные плоды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Сегодня все ученые соглашаются, что культура – очень сложное явление. Описать его трудно. Как ты думаешь, почему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Рассмотри кластер, в котором предложена классификация  разных элементов культуры.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Какие ещё элементы культуры ты хотел бы добавить?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 Составь и расскажи на основе кластера рассказ, который начинается со слов: «Культура  включает в себя…»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-33480" y="228600"/>
          <a:ext cx="917748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228600"/>
                    <a:ext cx="91774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лигия – часть культур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тесно связанная с другими ее элемен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Религия учит, что общее благо, к которому следует стремиться людям, находится за пределами только человеческого мира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Есть иной - духовный  мир, с которым человек может установить связь, чтобы научиться лучшему и стать совершенне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лово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религия»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- тоже латинское и означает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восстановление связи»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re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ligio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). Главным признаком религии является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ульт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 служение духовному миру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www.devichka.ru/images/stories/slovar/Sl-Bogoslugenie-Bol.jpg"/>
          <p:cNvPicPr/>
          <p:nvPr/>
        </p:nvPicPr>
        <p:blipFill>
          <a:blip r:embed="rId1"/>
          <a:stretch/>
        </p:blipFill>
        <p:spPr>
          <a:xfrm>
            <a:off x="4876920" y="0"/>
            <a:ext cx="456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Многие мыслители производят слово «культура» от слова «культ». Они полагают, что идеалы культуры - представления о благе, красоте, истине, справедливости — имеют источником религи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Религия формирует мировоззрение человека т.е. его воззрение на мир. Каждое религиозное учение по-своему сообщает человеку истину о мире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роды мира исповедуют разные религии.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Их представления об истине различны. В современном мире также много людей, которые имеют нерелигиозное мировоззре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Урок 2. Вера, религия, культура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 </a:t>
            </a:r>
            <a:br>
              <a:rPr sz="3200"/>
            </a:b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Размышляем вместе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Что такое благо?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Древние мудрецы  говорили так: благо есть то, к чему стремится душа,  к чему направлены желания человека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огласен ли ты с таким определением?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Может ли случиться так, что благо для одного оборачивается злом  для другого?  Приведи примеры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А бывает так, что благо вдруг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оборачивается своей противоположностью, злом? Знаешь ли ты такие истории? Расскажи.</a:t>
            </a:r>
            <a:br>
              <a:rPr sz="28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овременный мир стремится к веротерпимости и взаимопониманию. Различия мировоззрений не должно служить препятствием к тому, чтобы жить на одной планете в мире. Религиозная истина может быть настолько важна для человека, что он готов пойти за нее на любые лишения и жертвы. Но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икто не имеет права причинять другому насилие или ущерб из-за религиозных разногласий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иалог людей о религиозных истинах важен, потому что людям нужно научиться понимать других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, их обычаи и привычки и осмыслить истину своей религии в сравнении с представлениями об истине в других религиях и мировоззрения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Рассмотри и расскажи</a:t>
            </a: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ллюстрации  рассказывают о поклонении верующих своим святыням.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асскажи, что ты видишь на иллюстрациях.  Что объединяет верующих каждой религии между собой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атикан. Христиане-католики на площади св. Петра в Риме.  В ожидании Римского Пап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img2.kasjauns.lv/lielasbildes/381-jauns_pavests_vatikana/pavests-6.jpg"/>
          <p:cNvPicPr/>
          <p:nvPr/>
        </p:nvPicPr>
        <p:blipFill>
          <a:blip r:embed="rId1"/>
          <a:stretch/>
        </p:blipFill>
        <p:spPr>
          <a:xfrm>
            <a:off x="1047600" y="1467000"/>
            <a:ext cx="8096400" cy="5391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http://aksakal.info/uploads/posts/2013-03/1362527954_87.jpg"/>
          <p:cNvPicPr/>
          <p:nvPr/>
        </p:nvPicPr>
        <p:blipFill>
          <a:blip r:embed="rId3"/>
          <a:stretch/>
        </p:blipFill>
        <p:spPr>
          <a:xfrm>
            <a:off x="0" y="1295280"/>
            <a:ext cx="36878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Мусульмане  на поклонении в Мек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www.volsk-life.ru/uploads/posts/2010-01/1263889284_xadzh.jpg"/>
          <p:cNvPicPr/>
          <p:nvPr/>
        </p:nvPicPr>
        <p:blipFill>
          <a:blip r:embed="rId1"/>
          <a:stretch/>
        </p:blipFill>
        <p:spPr>
          <a:xfrm>
            <a:off x="0" y="77796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Иудеи и Стены Плача в Иерусалим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:\03. Уроки ОРКСЭ\01. Разработки уроков по ОРКСЭ-2013\01. ОМРК-2013\01. ОМРК уроки О.О от 12.11. 2012\22 урок Паломничества\03. Иудаизм\59Jews_place_of_wailing1860[1].jpg"/>
          <p:cNvPicPr/>
          <p:nvPr/>
        </p:nvPicPr>
        <p:blipFill>
          <a:blip r:embed="rId1"/>
          <a:stretch/>
        </p:blipFill>
        <p:spPr>
          <a:xfrm>
            <a:off x="304920" y="685800"/>
            <a:ext cx="8692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http://img11.nnm.ru/9/9/8/5/9/b2e0a3794d61368c5ea624e2d46_prev.jpg"/>
          <p:cNvPicPr/>
          <p:nvPr/>
        </p:nvPicPr>
        <p:blipFill>
          <a:blip r:embed="rId1"/>
          <a:stretch/>
        </p:blipFill>
        <p:spPr>
          <a:xfrm>
            <a:off x="2819520" y="2438280"/>
            <a:ext cx="6651360" cy="44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images04.oe24.at/Shwedagon.jpg/consoleMadonnaNoStretch2/57.164.305"/>
          <p:cNvPicPr/>
          <p:nvPr/>
        </p:nvPicPr>
        <p:blipFill>
          <a:blip r:embed="rId2"/>
          <a:stretch/>
        </p:blipFill>
        <p:spPr>
          <a:xfrm>
            <a:off x="0" y="838080"/>
            <a:ext cx="5810400" cy="2905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уддисты на поклонении пагоде Шведагон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агода – «башня сокровищ»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- священное культовое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ооружени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Каждая религия имеет  свои святыни – предметы, почитаемые верой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щепризнанная в современном мире норма – недопустимость   оскорблять  религиозные святын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200" spc="-1" strike="noStrike">
                <a:solidFill>
                  <a:srgbClr val="0070c0"/>
                </a:solidFill>
                <a:latin typeface="Arial"/>
              </a:rPr>
              <a:t>Мировая культура складывается из культур различных народов и цивилизаций.</a:t>
            </a:r>
            <a:br>
              <a:rPr sz="4200"/>
            </a:br>
            <a:r>
              <a:rPr b="1" lang="ru-RU" sz="4200" spc="-1" strike="noStrike">
                <a:solidFill>
                  <a:srgbClr val="0070c0"/>
                </a:solidFill>
                <a:latin typeface="Arial"/>
              </a:rPr>
              <a:t>Большое влияние на мировую культуру оказывают мировые религии</a:t>
            </a:r>
            <a:r>
              <a:rPr b="1" lang="ru-RU" sz="4200" spc="-1" strike="noStrike" u="sng">
                <a:solidFill>
                  <a:srgbClr val="0070c0"/>
                </a:solidFill>
                <a:uFillTx/>
                <a:latin typeface="Arial"/>
              </a:rPr>
              <a:t>: </a:t>
            </a:r>
            <a:r>
              <a:rPr b="1" lang="ru-RU" sz="4200" spc="-1" strike="noStrike" u="sng">
                <a:solidFill>
                  <a:srgbClr val="ff0000"/>
                </a:solidFill>
                <a:uFillTx/>
                <a:latin typeface="Arial"/>
              </a:rPr>
              <a:t>христианство, ислам, буддизм.</a:t>
            </a: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0070c0"/>
                </a:solidFill>
                <a:latin typeface="Arial"/>
              </a:rPr>
              <a:t>Самые многочисленные - христианство и ислам, их исповедуют половина населения планеты. 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нутри каждой из этих религий существуют свои различия  в понимании религиозной истины. Эти различия называют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споведаниями, или конфессиями.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 христианстве три основные конфессии – православие, католицизм, протестантизм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опросы, с обсуждения которых мы начали урок называют «вечными вопросами человечества». Новый предмет  позволит тебе подумать над «вечными» вопросами, узнать, как на них отвечают люди в разные времена и в разных обстоятельствах жизни.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 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думай и ответь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Как человек может дать ответ на «вечные» вопросы?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адиционные религии Росси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– православное христианство, ислам, буддизм.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ни называются традиционными, потому что  на территории России издавна живут народы, из поколения в поколение исповедующие эти религии</a:t>
            </a: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Изучая  основы православной культуры,  мы будем учиться понимать, как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лигия влияет на все стороны жизни народа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-  его ценности, идеалы, стремления, его характер, искусство, жизнь, быт, государствен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Оцени свою работ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Мы сегодня разобрались …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Я сегодня понял…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Мне было сложно (трудно)…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цени по 10-бальной шкале работу на занятии с позиции: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«Я»    0_______10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«Мы»  0_________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аждого человека в душе живет удивительная способность — вера. Вера — это предчувствие того, что мир вокруг нас и сама наша душа могут быть намного лучше и прекраснее, чем мы видим. Вера пробуждает в человеке стремление к лучшему, желание действовать ради бла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Подумай и ответь 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Что является общим благом для семьи? Без чего она не может существ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img1.liveinternet.ru/images/attach/c/2/74/347/74347153_nasait050820102.jpg"/>
          <p:cNvPicPr/>
          <p:nvPr/>
        </p:nvPicPr>
        <p:blipFill>
          <a:blip r:embed="rId1"/>
          <a:stretch/>
        </p:blipFill>
        <p:spPr>
          <a:xfrm>
            <a:off x="838080" y="1523880"/>
            <a:ext cx="7112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очему общее благо является также и личным благом каждого члена семь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mosaica.ru/sites/default/files/news/preview/2011/06/14/big76.jpg"/>
          <p:cNvPicPr/>
          <p:nvPr/>
        </p:nvPicPr>
        <p:blipFill>
          <a:blip r:embed="rId1"/>
          <a:stretch/>
        </p:blipFill>
        <p:spPr>
          <a:xfrm>
            <a:off x="533520" y="1295280"/>
            <a:ext cx="808668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Какие неприятности могут постигнуть семью, в которой каждый заботится только о собственном благе и не стремится к общему благу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image.tsn.ua/media/images2/original/Apr2011/383418298.jpg"/>
          <p:cNvPicPr/>
          <p:nvPr/>
        </p:nvPicPr>
        <p:blipFill>
          <a:blip r:embed="rId1"/>
          <a:stretch/>
        </p:blipFill>
        <p:spPr>
          <a:xfrm>
            <a:off x="4648320" y="0"/>
            <a:ext cx="43066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Свидетельством того, что человеком во все века его существования движет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тремление к общему благу,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является человеческая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ультура. 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Как ты думаешь, что такое человеческая культу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	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В книгах, музыке, художественных произведениях, в облике зданий и городов человек запечатлел свои представления о совершенной жизни. Эти представления называются идеалами: есть  идеалы истины, красоты, справедливости, правды, любви. Идеалы создают для человека ясный образ того, что он должен делать, чтобы достичь общего благ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6:06:17Z</dcterms:created>
  <dc:creator>Ольга</dc:creator>
  <dc:description/>
  <dc:language>en-US</dc:language>
  <cp:lastModifiedBy>Olga</cp:lastModifiedBy>
  <dcterms:modified xsi:type="dcterms:W3CDTF">2014-10-23T05:53:2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